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43.jpeg" ContentType="image/jpeg"/>
  <Override PartName="/ppt/media/image3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4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D680-B9A4-49CA-92C7-696AEF17D74D}" type="slidenum">
              <a:rPr b="0" lang="lt-L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D0D1-29F5-4E82-A0C9-2DCBC2AB3A11}" type="slidenum">
              <a:rPr b="0" lang="lt-L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80BD-1FEB-4092-9B15-4694784BB760}" type="slidenum">
              <a:rPr b="0" lang="lt-L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DF60-1261-438A-B626-C07561DEB30D}" type="slidenum">
              <a:rPr b="0" lang="lt-L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5939-E8EE-4B50-90DF-04643EA35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73D1-8F8D-41F9-8DD6-8E0DB291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6247-1F37-44F5-9E10-2C8510931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D56C-9F36-4F41-BC87-773BD5E0B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42C6-B4C9-4E65-A90C-7C8861F3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2076-4548-41DF-88D5-0FDE6B49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7706-F2AE-4C40-A7FE-1F23EF7F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86A8-B345-42E2-B9C5-445CBFD6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D5C7-2634-45F3-8049-E5EA9AE4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D71C-F54B-49AF-985E-136C3967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1105-DFF3-4019-AFC5-AEA52887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0820-C683-46F1-8EAB-8A327093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4D86-94F3-4355-B91E-DE96C0E2141E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483920"/>
            <a:ext cx="66564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898989"/>
                </a:solidFill>
                <a:latin typeface="Times New Roman"/>
              </a:rPr>
              <a:t> </a:t>
            </a:r>
            <a:r>
              <a:rPr b="1" lang="lt-LT" sz="3600" spc="-1" strike="noStrike">
                <a:solidFill>
                  <a:srgbClr val="898989"/>
                </a:solidFill>
                <a:latin typeface="Times New Roman"/>
              </a:rPr>
              <a:t>Vaikų fizinį aktyvumą skatinanti partneryst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898989"/>
                </a:solidFill>
                <a:latin typeface="Times New Roman"/>
              </a:rPr>
              <a:t>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898989"/>
                </a:solidFill>
                <a:latin typeface="Times New Roman"/>
              </a:rPr>
              <a:t>                                   </a:t>
            </a:r>
            <a:r>
              <a:rPr b="1" lang="lt-LT" sz="1600" spc="-1" strike="noStrike">
                <a:solidFill>
                  <a:srgbClr val="898989"/>
                </a:solidFill>
                <a:latin typeface="Times New Roman"/>
              </a:rPr>
              <a:t>Auklėtoja metodininkė Zita Bernot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:\Users\katinas\Desktop\images.jpg"/>
          <p:cNvPicPr/>
          <p:nvPr/>
        </p:nvPicPr>
        <p:blipFill>
          <a:blip r:embed="rId1"/>
          <a:stretch/>
        </p:blipFill>
        <p:spPr>
          <a:xfrm>
            <a:off x="2627280" y="189000"/>
            <a:ext cx="38386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439236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Esame dažni svečiai</a:t>
            </a:r>
            <a:br>
              <a:rPr sz="2600"/>
            </a:b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 A. Sabonio krepšinio cent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59984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C:\Mamos\Nuotraukos\Silinukas\DSC05515.JPG"/>
          <p:cNvPicPr/>
          <p:nvPr/>
        </p:nvPicPr>
        <p:blipFill>
          <a:blip r:embed="rId1"/>
          <a:stretch/>
        </p:blipFill>
        <p:spPr>
          <a:xfrm>
            <a:off x="4716360" y="3429000"/>
            <a:ext cx="4032360" cy="3024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Mamos\Nuotraukos\Silinukas\DSC05511.JPG"/>
          <p:cNvPicPr/>
          <p:nvPr/>
        </p:nvPicPr>
        <p:blipFill>
          <a:blip r:embed="rId2"/>
          <a:stretch/>
        </p:blipFill>
        <p:spPr>
          <a:xfrm>
            <a:off x="4716360" y="189000"/>
            <a:ext cx="3959280" cy="3024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L:\DARŽELIS\Įvairūs knygai\DSC05522.JPG"/>
          <p:cNvPicPr/>
          <p:nvPr/>
        </p:nvPicPr>
        <p:blipFill>
          <a:blip r:embed="rId3"/>
          <a:stretch/>
        </p:blipFill>
        <p:spPr>
          <a:xfrm>
            <a:off x="1187280" y="2276640"/>
            <a:ext cx="2881440" cy="4173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L:\DARŽELIS\begimas\IMG_0294.JPG"/>
          <p:cNvPicPr/>
          <p:nvPr/>
        </p:nvPicPr>
        <p:blipFill>
          <a:blip r:embed="rId1"/>
          <a:stretch/>
        </p:blipFill>
        <p:spPr>
          <a:xfrm>
            <a:off x="1258920" y="765000"/>
            <a:ext cx="2592360" cy="2951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Users\katinas\AppData\Local\Temp\06-DSC05501.JPG"/>
          <p:cNvPicPr/>
          <p:nvPr/>
        </p:nvPicPr>
        <p:blipFill>
          <a:blip r:embed="rId2"/>
          <a:stretch/>
        </p:blipFill>
        <p:spPr>
          <a:xfrm>
            <a:off x="4716360" y="907920"/>
            <a:ext cx="4211640" cy="2521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Users\katinas\AppData\Local\Temp\07-DSC05521.JPG"/>
          <p:cNvPicPr/>
          <p:nvPr/>
        </p:nvPicPr>
        <p:blipFill>
          <a:blip r:embed="rId3"/>
          <a:stretch/>
        </p:blipFill>
        <p:spPr>
          <a:xfrm>
            <a:off x="4716360" y="3716280"/>
            <a:ext cx="4176720" cy="2665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4"/>
          <a:stretch/>
        </p:blipFill>
        <p:spPr>
          <a:xfrm>
            <a:off x="395280" y="4005360"/>
            <a:ext cx="4038480" cy="22748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684360" y="333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Vienas iš paprasčiausių ir tuo pačiu efektyviausių  sportavimo būdų – bėgi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Turime galimybę vaikus supažindinti ir su viena iš retesnių sporto šakų - taekwond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C:\Edo\Lie2.1.JPG"/>
          <p:cNvPicPr/>
          <p:nvPr/>
        </p:nvPicPr>
        <p:blipFill>
          <a:blip r:embed="rId1"/>
          <a:stretch/>
        </p:blipFill>
        <p:spPr>
          <a:xfrm>
            <a:off x="468360" y="1341360"/>
            <a:ext cx="3816360" cy="2374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Edo\Lie2.JPG"/>
          <p:cNvPicPr/>
          <p:nvPr/>
        </p:nvPicPr>
        <p:blipFill>
          <a:blip r:embed="rId2"/>
          <a:stretch/>
        </p:blipFill>
        <p:spPr>
          <a:xfrm>
            <a:off x="4643280" y="1341360"/>
            <a:ext cx="4038840" cy="237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C:\Edo\Lie3.JPG"/>
          <p:cNvPicPr/>
          <p:nvPr/>
        </p:nvPicPr>
        <p:blipFill>
          <a:blip r:embed="rId3"/>
          <a:stretch/>
        </p:blipFill>
        <p:spPr>
          <a:xfrm>
            <a:off x="468360" y="3933720"/>
            <a:ext cx="3846600" cy="2664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C:\Edo\Lie5.JPG"/>
          <p:cNvPicPr/>
          <p:nvPr/>
        </p:nvPicPr>
        <p:blipFill>
          <a:blip r:embed="rId4"/>
          <a:stretch/>
        </p:blipFill>
        <p:spPr>
          <a:xfrm>
            <a:off x="4643280" y="3933720"/>
            <a:ext cx="4064040" cy="2664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16000" y="274320"/>
            <a:ext cx="397044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Times New Roman"/>
              </a:rPr>
              <a:t>Šaškių turnyrą </a:t>
            </a:r>
            <a:r>
              <a:rPr b="1" lang="lt-LT" sz="2300" spc="-1" strike="noStrike">
                <a:solidFill>
                  <a:srgbClr val="000000"/>
                </a:solidFill>
                <a:latin typeface="Times New Roman"/>
              </a:rPr>
              <a:t>,,Balta – juoda</a:t>
            </a:r>
            <a:r>
              <a:rPr b="0" lang="lt-LT" sz="2300" spc="-1" strike="noStrike">
                <a:solidFill>
                  <a:srgbClr val="000000"/>
                </a:solidFill>
                <a:latin typeface="Times New Roman"/>
              </a:rPr>
              <a:t>” rengėme savo darželyje, dalyvavome ir respublikiniame ikimokyklinių įstaigų turnyre Jonavoj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C:\Users\katinas\Documents\Saskiu turnyro diena\DSC09640.jpg"/>
          <p:cNvPicPr/>
          <p:nvPr/>
        </p:nvPicPr>
        <p:blipFill>
          <a:blip r:embed="rId1"/>
          <a:stretch/>
        </p:blipFill>
        <p:spPr>
          <a:xfrm>
            <a:off x="179280" y="189000"/>
            <a:ext cx="4038840" cy="2668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L:\OLIMPINIS UGDYMAS\Šaškių turnyras\DSC02784.jpg"/>
          <p:cNvPicPr/>
          <p:nvPr/>
        </p:nvPicPr>
        <p:blipFill>
          <a:blip r:embed="rId2"/>
          <a:stretch/>
        </p:blipFill>
        <p:spPr>
          <a:xfrm>
            <a:off x="5219640" y="2637000"/>
            <a:ext cx="3313080" cy="3887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:\Users\katinas\Documents\Saskiu turnyro diena\DSC09665.jpg"/>
          <p:cNvPicPr/>
          <p:nvPr/>
        </p:nvPicPr>
        <p:blipFill>
          <a:blip r:embed="rId3"/>
          <a:stretch/>
        </p:blipFill>
        <p:spPr>
          <a:xfrm>
            <a:off x="468360" y="3573360"/>
            <a:ext cx="3743280" cy="280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lt-LT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Mankšta – smagi žaidybinė veikla. Žiemą ji vyksta salėje, grupėse, vasarą - darželio kieme.</a:t>
            </a:r>
            <a:br>
              <a:rPr sz="36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3085920" cy="2117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4859280" y="1628640"/>
            <a:ext cx="3168720" cy="2087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L:\DARŽELIS\Įvairūs knygai\DSC05460.JPG"/>
          <p:cNvPicPr/>
          <p:nvPr/>
        </p:nvPicPr>
        <p:blipFill>
          <a:blip r:embed="rId3"/>
          <a:stretch/>
        </p:blipFill>
        <p:spPr>
          <a:xfrm>
            <a:off x="900000" y="4292640"/>
            <a:ext cx="3167280" cy="2058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C:\Users\katinas\Documents\sporto savaites uzdarymo diena\DSC09763.jpg"/>
          <p:cNvPicPr/>
          <p:nvPr/>
        </p:nvPicPr>
        <p:blipFill>
          <a:blip r:embed="rId4"/>
          <a:stretch/>
        </p:blipFill>
        <p:spPr>
          <a:xfrm>
            <a:off x="4859280" y="4292640"/>
            <a:ext cx="3168720" cy="2058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3"/>
          <a:stretch/>
        </p:blipFill>
        <p:spPr>
          <a:xfrm>
            <a:off x="250920" y="3213000"/>
            <a:ext cx="3457440" cy="3451320"/>
          </a:xfrm>
          <a:prstGeom prst="rect">
            <a:avLst/>
          </a:prstGeom>
          <a:ln w="0">
            <a:noFill/>
          </a:ln>
        </p:spPr>
      </p:pic>
      <p:pic>
        <p:nvPicPr>
          <p:cNvPr id="110" name="Paveikslėlis 17" descr="C:\Users\user\Desktop\JK\nuotraukos\2012-2013\NETRADICINES\IMG_0036.JPG"/>
          <p:cNvPicPr/>
          <p:nvPr/>
        </p:nvPicPr>
        <p:blipFill>
          <a:blip r:embed="rId4"/>
          <a:stretch/>
        </p:blipFill>
        <p:spPr>
          <a:xfrm>
            <a:off x="5003640" y="3573360"/>
            <a:ext cx="3600720" cy="287172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9"/>
          <p:cNvSpPr/>
          <p:nvPr/>
        </p:nvSpPr>
        <p:spPr>
          <a:xfrm>
            <a:off x="395280" y="333360"/>
            <a:ext cx="4032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lt-L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tą žaidžiame kartu su šeima “.</a:t>
            </a:r>
            <a:r>
              <a:rPr b="0" lang="lt-L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Šioje sporto šventėje dalijomės sukaupta patirtimi, kaip galima panaudoti   netradicines priemones  įvairiose sportinėse rungtyse. Renginyje dalyvavo Kauno lopšelio-darželio „Šilinukas“  vaikai ir jų tėveliai bei Gričiupio seniūnijos ikimokyklinių įstaigų ugdytiniai su auklėtojomi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" descr="C:\Edo\14ped.JPG"/>
          <p:cNvPicPr/>
          <p:nvPr/>
        </p:nvPicPr>
        <p:blipFill>
          <a:blip r:embed="rId5"/>
          <a:stretch/>
        </p:blipFill>
        <p:spPr>
          <a:xfrm>
            <a:off x="5003640" y="404640"/>
            <a:ext cx="3600720" cy="251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Edo\18ped.JPG"/>
          <p:cNvPicPr/>
          <p:nvPr/>
        </p:nvPicPr>
        <p:blipFill>
          <a:blip r:embed="rId6"/>
          <a:stretch/>
        </p:blipFill>
        <p:spPr>
          <a:xfrm>
            <a:off x="755640" y="2205000"/>
            <a:ext cx="3025800" cy="194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C:\Edo\28ped.JPG"/>
          <p:cNvPicPr/>
          <p:nvPr/>
        </p:nvPicPr>
        <p:blipFill>
          <a:blip r:embed="rId7"/>
          <a:stretch/>
        </p:blipFill>
        <p:spPr>
          <a:xfrm>
            <a:off x="755640" y="4581360"/>
            <a:ext cx="3025800" cy="1965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yksta smagių estafečių ir judrių žaidimų, sporto rytmeči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aveikslėlis 19" descr="Picture 088"/>
          <p:cNvPicPr/>
          <p:nvPr/>
        </p:nvPicPr>
        <p:blipFill>
          <a:blip r:embed="rId1"/>
          <a:stretch/>
        </p:blipFill>
        <p:spPr>
          <a:xfrm>
            <a:off x="5148360" y="1197000"/>
            <a:ext cx="3741480" cy="2376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" descr="L:\OLIMPINIS UGDYMAS\Sporto savaitės uždarymo diena.jpg"/>
          <p:cNvPicPr/>
          <p:nvPr/>
        </p:nvPicPr>
        <p:blipFill>
          <a:blip r:embed="rId2"/>
          <a:stretch/>
        </p:blipFill>
        <p:spPr>
          <a:xfrm>
            <a:off x="5148360" y="3789360"/>
            <a:ext cx="3744720" cy="2664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L:\OLIMPINIS UGDYMAS\Sporto savaitės uždarymo diena (2).jpg"/>
          <p:cNvPicPr/>
          <p:nvPr/>
        </p:nvPicPr>
        <p:blipFill>
          <a:blip r:embed="rId3"/>
          <a:stretch/>
        </p:blipFill>
        <p:spPr>
          <a:xfrm>
            <a:off x="900000" y="1773360"/>
            <a:ext cx="3600720" cy="460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4968720" cy="518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900" spc="-1" strike="noStrike">
                <a:solidFill>
                  <a:srgbClr val="000000"/>
                </a:solidFill>
                <a:latin typeface="Calibri"/>
              </a:rPr>
              <a:t>ž.</a:t>
            </a: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2300"/>
            </a:br>
            <a:r>
              <a:rPr b="0" lang="lt-LT" sz="2300" spc="-1" strike="noStrike">
                <a:solidFill>
                  <a:srgbClr val="000000"/>
                </a:solidFill>
                <a:latin typeface="Times New Roman"/>
              </a:rPr>
              <a:t>Aktyvi fizinė veikla žiemą įdomi ir smagi. Atsižvelgiant į oro sąlygas, užtikrinamas aktyvus poilsis organizuojant judrią veiklą: </a:t>
            </a:r>
            <a:br>
              <a:rPr sz="2300"/>
            </a:br>
            <a:r>
              <a:rPr b="0" lang="lt-LT" sz="2300" spc="-1" strike="noStrike">
                <a:solidFill>
                  <a:srgbClr val="000000"/>
                </a:solidFill>
                <a:latin typeface="Times New Roman"/>
              </a:rPr>
              <a:t>pasivaikščiojimai, pasivažinėjimai su rogutėmis, kuriose vaikai dalyvauja kartu su tėveliais.</a:t>
            </a:r>
            <a:br>
              <a:rPr sz="2300"/>
            </a:br>
            <a:r>
              <a:rPr b="0" lang="lt-LT" sz="2300" spc="-1" strike="noStrike">
                <a:solidFill>
                  <a:srgbClr val="000000"/>
                </a:solidFill>
                <a:latin typeface="Times New Roman"/>
              </a:rPr>
              <a:t>Kartu ridenant sniego rutulius vaikai stengiasi neatsilikti nuo savo draugų, bendrauti, tartis ir veikti komandoje.</a:t>
            </a:r>
            <a:br>
              <a:rPr sz="2300"/>
            </a:br>
            <a:br>
              <a:rPr sz="900"/>
            </a:br>
            <a:r>
              <a:rPr b="0" lang="lt-L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36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aveikslėlis 14" descr="C:\Users\user\Desktop\JK\nuotraukos\2012-2013\užgavėnės\IMG_0044.JPG"/>
          <p:cNvPicPr/>
          <p:nvPr/>
        </p:nvPicPr>
        <p:blipFill>
          <a:blip r:embed="rId1"/>
          <a:stretch/>
        </p:blipFill>
        <p:spPr>
          <a:xfrm>
            <a:off x="5651640" y="3645000"/>
            <a:ext cx="3241440" cy="2305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" descr="L:\Piešiniai\Nuotrauka0050.jpg"/>
          <p:cNvPicPr/>
          <p:nvPr/>
        </p:nvPicPr>
        <p:blipFill>
          <a:blip r:embed="rId2"/>
          <a:stretch/>
        </p:blipFill>
        <p:spPr>
          <a:xfrm>
            <a:off x="5651640" y="549360"/>
            <a:ext cx="3241440" cy="2303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Skatina vaikų motyvaciją labiau įsitraukti į ugdymo(si) procesą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Vaikai tampa veiklesni, smalsesni,o tai tiesiogia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ejasi su geresniais jų pasiekima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360" y="2276640"/>
            <a:ext cx="40384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Teigiamai veikia vaikų savivertę ir skatin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sitikėjimą savi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Vaikams suteikia džiugių emocijų, o tai‐ viena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ros vaiko savijautos </a:t>
            </a: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 rodikli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C:\Users\savana\Desktop\krepšinis 2015\DSC00581.JPG"/>
          <p:cNvPicPr/>
          <p:nvPr/>
        </p:nvPicPr>
        <p:blipFill>
          <a:blip r:embed="rId1"/>
          <a:stretch/>
        </p:blipFill>
        <p:spPr>
          <a:xfrm>
            <a:off x="4643280" y="234936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ėkmingų startų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L:\OLIMPINĖ NUOTRAUKA\DSC09899.JPG"/>
          <p:cNvPicPr/>
          <p:nvPr/>
        </p:nvPicPr>
        <p:blipFill>
          <a:blip r:embed="rId1"/>
          <a:stretch/>
        </p:blipFill>
        <p:spPr>
          <a:xfrm>
            <a:off x="1835280" y="2349360"/>
            <a:ext cx="5335560" cy="3748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Calibri"/>
              </a:rPr>
              <a:t>FIZINIS AKTYVUMAS – būtinas sveikos gyvensenos veiksnys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92000" y="1628640"/>
            <a:ext cx="7653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Siekiame, kad judrios veiklos metu vaika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tenkintų gyvybiškai svarbų judėjimo poreikį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ugdytųsi bendravimo įgūdžiu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imtų labiau pasitikėti savim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pratintųsi laikytis tam tikrų taisyklių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ugdytųsi sveikos gyvensenos nuostat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gerintų judesių koordinacij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ugdytųsi motorinius įgūdžiu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patirtų teigiamų emocijų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pažintų erdvinę ir daiktinę aplink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73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Kadangi darželis turi tik vieną bendrą salę renginiams ir sportui, todėl stengiamės maksimaliai išnaudoti ją judriai veiklai: vyksta kūno kultūros valandėlės (po 2 kartus savaitėje), muzikos užsiėmimai (po 2 kartus savaitėje), sportinės pramogos, papildomo ugdymo choreografijos užsiėmimai, rytinė mankšta, kuri šiltuoju metų laiku persikelia į kiem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Lopšelio-darželio pedagogės kuria ilgalaikius ir trumpalaikius vaikų sveikos gyvensenos ugdymo ir sveikatinimo projektus, atsižvelgiant į įstaigos metinės veiklos plane ir grupių ugdymo metų planuose numatytus tikslus ir uždavinius. Organizuojamos sportinės pramogos visais metų laikais, atskiros amžiaus grupės organizuoja judrios veiklos ar žaidimų savai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45600" cy="15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3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920" y="549000"/>
            <a:ext cx="3565440" cy="56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Laikydamiesi nuostatos, jog judėjimas vaikams ne tik būtina, bet ir smagi, įdomi veikla, jos skatinimui ieškome įvairių būdų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nerystė – tikslingas ir abipusiai naudingas</a:t>
            </a: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ndradarbiavimas, siekia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ndro tikslo ir naujos veiklos kokybė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L:\Piešiniai\Nuotrauka0048.jpg"/>
          <p:cNvPicPr/>
          <p:nvPr/>
        </p:nvPicPr>
        <p:blipFill>
          <a:blip r:embed="rId1"/>
          <a:stretch/>
        </p:blipFill>
        <p:spPr>
          <a:xfrm>
            <a:off x="4140360" y="620640"/>
            <a:ext cx="4743360" cy="4221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3611520" cy="29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Lopšelyje – darželyje „Šilinukas“ propaguojamos sporto 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ko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plaukimas, futbolas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krepšinis, bėgimas, taekwondo, </a:t>
            </a:r>
            <a:br>
              <a:rPr sz="2600"/>
            </a:b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žaidimas šaškėmi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L:\Piešiniai\Nuotrauka0053.jpg"/>
          <p:cNvPicPr/>
          <p:nvPr/>
        </p:nvPicPr>
        <p:blipFill>
          <a:blip r:embed="rId1"/>
          <a:stretch/>
        </p:blipFill>
        <p:spPr>
          <a:xfrm>
            <a:off x="4572000" y="3333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6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3887640" cy="3024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L:\Piešiniai\Nuotrauka0051.jpg"/>
          <p:cNvPicPr/>
          <p:nvPr/>
        </p:nvPicPr>
        <p:blipFill>
          <a:blip r:embed="rId3"/>
          <a:stretch/>
        </p:blipFill>
        <p:spPr>
          <a:xfrm>
            <a:off x="4572000" y="3645000"/>
            <a:ext cx="4038480" cy="2952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395280"/>
            <a:ext cx="3960720" cy="260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4-6 m. vaikai lanko Kauno centro sporto m-los baseiną. Tai svarbi fizinio  lavinimo sritis, kuomet tobulėja vaiko judėjimo aparatas, fiziniai gebėjimai.</a:t>
            </a: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4643280" y="3284640"/>
            <a:ext cx="4254480" cy="2687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L:\DARŽELIS\Baseino nuotraukos\DSC09435.JPG"/>
          <p:cNvPicPr/>
          <p:nvPr/>
        </p:nvPicPr>
        <p:blipFill>
          <a:blip r:embed="rId2"/>
          <a:stretch/>
        </p:blipFill>
        <p:spPr>
          <a:xfrm>
            <a:off x="324000" y="3284640"/>
            <a:ext cx="3960720" cy="2665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L:\DARŽELIS\Baseino nuotraukos\DSC09431.JPG"/>
          <p:cNvPicPr/>
          <p:nvPr/>
        </p:nvPicPr>
        <p:blipFill>
          <a:blip r:embed="rId3"/>
          <a:stretch/>
        </p:blipFill>
        <p:spPr>
          <a:xfrm>
            <a:off x="4643280" y="333360"/>
            <a:ext cx="428472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13" descr="DSC_0278.JPG"/>
          <p:cNvPicPr/>
          <p:nvPr/>
        </p:nvPicPr>
        <p:blipFill>
          <a:blip r:embed="rId1"/>
          <a:stretch/>
        </p:blipFill>
        <p:spPr>
          <a:xfrm>
            <a:off x="468360" y="333360"/>
            <a:ext cx="4038480" cy="237492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21" descr="DSC_0272.JPG"/>
          <p:cNvPicPr/>
          <p:nvPr/>
        </p:nvPicPr>
        <p:blipFill>
          <a:blip r:embed="rId2"/>
          <a:stretch/>
        </p:blipFill>
        <p:spPr>
          <a:xfrm>
            <a:off x="4643280" y="333360"/>
            <a:ext cx="4172040" cy="2344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3"/>
          <a:stretch/>
        </p:blipFill>
        <p:spPr>
          <a:xfrm>
            <a:off x="4643280" y="3357720"/>
            <a:ext cx="4176720" cy="2519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C:\Users\savana\Desktop\VAIKŲ FAILAI\GUSTĖ\DSC_0321.JPG"/>
          <p:cNvPicPr/>
          <p:nvPr/>
        </p:nvPicPr>
        <p:blipFill>
          <a:blip r:embed="rId4"/>
          <a:stretch/>
        </p:blipFill>
        <p:spPr>
          <a:xfrm>
            <a:off x="468360" y="3357720"/>
            <a:ext cx="39592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41148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Krepšinis yra vaikų ypač mėgstamas</a:t>
            </a: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L:\krepsiniodiena_silinukas\DSC02242.JPG"/>
          <p:cNvPicPr/>
          <p:nvPr/>
        </p:nvPicPr>
        <p:blipFill>
          <a:blip r:embed="rId1"/>
          <a:stretch/>
        </p:blipFill>
        <p:spPr>
          <a:xfrm>
            <a:off x="4716360" y="3789360"/>
            <a:ext cx="4176720" cy="2735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L:\Piešiniai\TRIKREPŠIS 2014 03 12\DSC09831.JPG"/>
          <p:cNvPicPr/>
          <p:nvPr/>
        </p:nvPicPr>
        <p:blipFill>
          <a:blip r:embed="rId2"/>
          <a:stretch/>
        </p:blipFill>
        <p:spPr>
          <a:xfrm>
            <a:off x="4716360" y="333360"/>
            <a:ext cx="4176720" cy="3095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L:\DARŽELIS\Įvairūs knygai\IMGP3746.JPG"/>
          <p:cNvPicPr/>
          <p:nvPr/>
        </p:nvPicPr>
        <p:blipFill>
          <a:blip r:embed="rId3"/>
          <a:stretch/>
        </p:blipFill>
        <p:spPr>
          <a:xfrm>
            <a:off x="826920" y="2997360"/>
            <a:ext cx="3024360" cy="3240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Bendradarbiaujame su Tornado krepšinio mokykl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L:\krepsiniodiena_silinukas\DSC02256.JPG"/>
          <p:cNvPicPr/>
          <p:nvPr/>
        </p:nvPicPr>
        <p:blipFill>
          <a:blip r:embed="rId1"/>
          <a:stretch/>
        </p:blipFill>
        <p:spPr>
          <a:xfrm>
            <a:off x="4859280" y="393372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L:\krepsiniodiena_silinukas\DSC02238.JPG"/>
          <p:cNvPicPr/>
          <p:nvPr/>
        </p:nvPicPr>
        <p:blipFill>
          <a:blip r:embed="rId2"/>
          <a:stretch/>
        </p:blipFill>
        <p:spPr>
          <a:xfrm>
            <a:off x="4859280" y="1052640"/>
            <a:ext cx="4038480" cy="2736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L:\krepsiniodiena_silinukas\DSC02220.JPG"/>
          <p:cNvPicPr/>
          <p:nvPr/>
        </p:nvPicPr>
        <p:blipFill>
          <a:blip r:embed="rId3"/>
          <a:stretch/>
        </p:blipFill>
        <p:spPr>
          <a:xfrm>
            <a:off x="395280" y="1125360"/>
            <a:ext cx="4176720" cy="2664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L:\krepsiniodiena_silinukas\DSC02194.JPG"/>
          <p:cNvPicPr/>
          <p:nvPr/>
        </p:nvPicPr>
        <p:blipFill>
          <a:blip r:embed="rId4"/>
          <a:stretch/>
        </p:blipFill>
        <p:spPr>
          <a:xfrm>
            <a:off x="395280" y="3933720"/>
            <a:ext cx="4176720" cy="2735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2T21:00:47Z</dcterms:created>
  <dc:creator>Kristina Saprykinaitė</dc:creator>
  <dc:description/>
  <dc:language>en-US</dc:language>
  <cp:lastModifiedBy>Vartotojas</cp:lastModifiedBy>
  <dcterms:modified xsi:type="dcterms:W3CDTF">2016-05-12T19:36:23Z</dcterms:modified>
  <cp:revision>75</cp:revision>
  <dc:subject/>
  <dc:title>PowerPoint Presentation</dc:title>
</cp:coreProperties>
</file>